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408E-9BCC-4484-A8F1-276A073EF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57F6-95A9-49DB-82A4-7D87C67AD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D193-58A9-48FF-A563-E179BAED8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43D0-8BB7-4FD8-9EE3-C7E3659024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ED57-6D04-4007-8197-3999046A34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D03C-A352-48FA-B04B-6337C2993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55D54-60EF-43CD-818F-B51A935F5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80C5-96BC-4992-AEEB-ED9A48115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D937-3119-4A72-A4C6-C5B519C0F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FCCC-032A-4311-9571-040C60335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9283-1A2C-42E6-8C84-433AC5A7F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AEAF-4F67-4B74-9262-AD9A4F767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29600" y="647712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8-</a:t>
            </a:r>
            <a:fld id="{900CB9CC-D812-40CE-A355-B917E21576E7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1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We will move along the elements of A. For each new element we will compare the element with the current element of B. If they match, we will traverse A and B until we find a new element in A and a new element in B accordingly. If the elements are the same w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the previous step until the end of the lists. Else we report that the lists do not have the same set of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The above algorithm is O(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DE5D-68EF-4BD9-B96A-3E6AE8A4E1A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2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amine linearly all the elements a of A. For each element a, perform a binary search in the elements of B looking for an element b such that b=m-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2(m,A,B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Foreach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b=binarysearch(m-a, B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if (found(b)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%d + %d = %d”, a,b,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element was not found in b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61D8-D3AE-4B64-B482-77C266DA5AF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DZ</cp:lastModifiedBy>
  <dcterms:modified xsi:type="dcterms:W3CDTF">2006-10-29T07:24:04Z</dcterms:modified>
  <cp:revision>347</cp:revision>
  <dc:subject/>
  <dc:title>l</dc:title>
</cp:coreProperties>
</file>